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7.wmf" ContentType="image/x-wmf"/>
  <Override PartName="/ppt/media/image16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C71-98BD-46B2-8D48-E2663D7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0C6-8E07-4C8B-9F4E-19D4FE58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D1B-1C4B-4770-B951-BE42BD03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D3F-11CB-4586-A8AF-EA55A61E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2B3-A562-450E-94BA-F2314856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21B-D00A-4FD7-AC11-79E5BB6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FEB-491F-49E0-8910-5C900F0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A26-C17F-4750-8BA9-7AB4A3F3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CE6-02C4-4356-A221-F0F3BC49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941-C465-43A4-AF6B-8BA836A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CE0-3918-450F-BF15-E9F17EC8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F71-2DBF-4470-9648-C6BABD4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5754-5DD3-4910-B74A-D93ADA888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791320"/>
            <a:ext cx="1295280" cy="9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1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metry &amp; Measurement Review Gam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8"/>
          <p:cNvSpPr/>
          <p:nvPr/>
        </p:nvSpPr>
        <p:spPr>
          <a:xfrm>
            <a:off x="73152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9"/>
          <p:cNvSpPr/>
          <p:nvPr/>
        </p:nvSpPr>
        <p:spPr>
          <a:xfrm>
            <a:off x="73152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3"/>
          <p:cNvSpPr/>
          <p:nvPr/>
        </p:nvSpPr>
        <p:spPr>
          <a:xfrm>
            <a:off x="55627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4"/>
          <p:cNvSpPr/>
          <p:nvPr/>
        </p:nvSpPr>
        <p:spPr>
          <a:xfrm>
            <a:off x="55627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0"/>
          <p:cNvSpPr/>
          <p:nvPr/>
        </p:nvSpPr>
        <p:spPr>
          <a:xfrm>
            <a:off x="73152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1"/>
          <p:cNvSpPr/>
          <p:nvPr/>
        </p:nvSpPr>
        <p:spPr>
          <a:xfrm>
            <a:off x="73152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62"/>
          <p:cNvSpPr/>
          <p:nvPr/>
        </p:nvSpPr>
        <p:spPr>
          <a:xfrm>
            <a:off x="73152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5"/>
          <p:cNvSpPr/>
          <p:nvPr/>
        </p:nvSpPr>
        <p:spPr>
          <a:xfrm>
            <a:off x="55627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6"/>
          <p:cNvSpPr/>
          <p:nvPr/>
        </p:nvSpPr>
        <p:spPr>
          <a:xfrm>
            <a:off x="55627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7"/>
          <p:cNvSpPr/>
          <p:nvPr/>
        </p:nvSpPr>
        <p:spPr>
          <a:xfrm>
            <a:off x="55627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3"/>
          <p:cNvSpPr/>
          <p:nvPr/>
        </p:nvSpPr>
        <p:spPr>
          <a:xfrm>
            <a:off x="3809880" y="16765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3809880" y="26668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5"/>
          <p:cNvSpPr/>
          <p:nvPr/>
        </p:nvSpPr>
        <p:spPr>
          <a:xfrm>
            <a:off x="3809880" y="3657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6"/>
          <p:cNvSpPr/>
          <p:nvPr/>
        </p:nvSpPr>
        <p:spPr>
          <a:xfrm>
            <a:off x="3809880" y="4648320"/>
            <a:ext cx="1524240" cy="76176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10" h="21600">
                <a:moveTo>
                  <a:pt x="0" y="0"/>
                </a:moveTo>
                <a:lnTo>
                  <a:pt x="43210" y="0"/>
                </a:lnTo>
                <a:lnTo>
                  <a:pt x="43210" y="21600"/>
                </a:lnTo>
                <a:lnTo>
                  <a:pt x="0" y="21600"/>
                </a:lnTo>
                <a:close/>
              </a:path>
              <a:path fill="lightenLess" w="43210" h="21600">
                <a:moveTo>
                  <a:pt x="0" y="0"/>
                </a:moveTo>
                <a:lnTo>
                  <a:pt x="43210" y="0"/>
                </a:lnTo>
                <a:lnTo>
                  <a:pt x="41810" y="1400"/>
                </a:lnTo>
                <a:lnTo>
                  <a:pt x="1400" y="1400"/>
                </a:lnTo>
                <a:close/>
              </a:path>
              <a:path fill="darken" w="43210" h="21600">
                <a:moveTo>
                  <a:pt x="43210" y="0"/>
                </a:moveTo>
                <a:lnTo>
                  <a:pt x="43210" y="21600"/>
                </a:lnTo>
                <a:lnTo>
                  <a:pt x="41810" y="20200"/>
                </a:lnTo>
                <a:lnTo>
                  <a:pt x="41810" y="1400"/>
                </a:lnTo>
                <a:close/>
              </a:path>
              <a:path fill="darkenLess" w="43210" h="21600">
                <a:moveTo>
                  <a:pt x="43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0" y="20200"/>
                </a:lnTo>
                <a:close/>
              </a:path>
              <a:path fill="lighten" w="43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7"/>
          <p:cNvSpPr/>
          <p:nvPr/>
        </p:nvSpPr>
        <p:spPr>
          <a:xfrm>
            <a:off x="3809880" y="5638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30492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492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30492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0492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0492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2057400" y="1676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2057400" y="2666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2057400" y="3657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2057400" y="46483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2057400" y="5638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762120"/>
          <a:ext cx="8686800" cy="8222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812960"/>
                <a:gridCol w="1752480"/>
                <a:gridCol w="16765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meter and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 and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Complex Sha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agorean Theorem and Tria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ella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volume of the cylind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=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62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65760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volume of the rectangular Pr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2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88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76236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3657600" y="220968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1936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2 ft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8862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3 yd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53520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a of Complex Shap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2286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of the complex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reak it down into simpler shapes 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1 c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2"/>
          <a:stretch/>
        </p:blipFill>
        <p:spPr>
          <a:xfrm>
            <a:off x="228600" y="2128680"/>
            <a:ext cx="4343400" cy="42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ich angle is congruent to    CA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F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4" descr="MPj03901240000[1]"/>
          <p:cNvPicPr/>
          <p:nvPr/>
        </p:nvPicPr>
        <p:blipFill>
          <a:blip r:embed="rId2"/>
          <a:stretch/>
        </p:blipFill>
        <p:spPr>
          <a:xfrm>
            <a:off x="1066680" y="4800600"/>
            <a:ext cx="25909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7"/>
          <p:cNvGrpSpPr/>
          <p:nvPr/>
        </p:nvGrpSpPr>
        <p:grpSpPr>
          <a:xfrm>
            <a:off x="5410080" y="3429000"/>
            <a:ext cx="457200" cy="457200"/>
            <a:chOff x="5410080" y="3429000"/>
            <a:chExt cx="457200" cy="457200"/>
          </a:xfrm>
        </p:grpSpPr>
        <p:sp>
          <p:nvSpPr>
            <p:cNvPr id="157" name="Line 15"/>
            <p:cNvSpPr/>
            <p:nvPr/>
          </p:nvSpPr>
          <p:spPr>
            <a:xfrm>
              <a:off x="541008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 flipV="1">
              <a:off x="5410080" y="34290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AutoShape 18"/>
          <p:cNvSpPr/>
          <p:nvPr/>
        </p:nvSpPr>
        <p:spPr>
          <a:xfrm>
            <a:off x="533520" y="1981080"/>
            <a:ext cx="1600200" cy="20574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2743200" y="2133720"/>
            <a:ext cx="1143000" cy="15238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28600" y="1752480"/>
            <a:ext cx="2514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362320" y="1828800"/>
            <a:ext cx="2057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e triangle as scalene, isosceles, and equilatera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isosce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5" descr="MPj03901240000[1]"/>
          <p:cNvPicPr/>
          <p:nvPr/>
        </p:nvPicPr>
        <p:blipFill>
          <a:blip r:embed="rId2"/>
          <a:stretch/>
        </p:blipFill>
        <p:spPr>
          <a:xfrm>
            <a:off x="533520" y="4962600"/>
            <a:ext cx="236196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6"/>
          <p:cNvSpPr/>
          <p:nvPr/>
        </p:nvSpPr>
        <p:spPr>
          <a:xfrm>
            <a:off x="1219320" y="2133720"/>
            <a:ext cx="1981080" cy="2209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600200" y="3048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2514600" y="2971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3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273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267080" y="54864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32 cm, A = 48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0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1"/>
          <p:cNvSpPr/>
          <p:nvPr/>
        </p:nvSpPr>
        <p:spPr>
          <a:xfrm>
            <a:off x="4648320" y="3429000"/>
            <a:ext cx="358128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11480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thagorean Theorem &amp; Triangles for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14"/>
          <p:cNvGraphicFramePr/>
          <p:nvPr/>
        </p:nvGraphicFramePr>
        <p:xfrm>
          <a:off x="5438880" y="1981080"/>
          <a:ext cx="1238040" cy="19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8880" y="1981080"/>
                    <a:ext cx="123804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80060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4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"/>
          <p:cNvPicPr/>
          <p:nvPr/>
        </p:nvPicPr>
        <p:blipFill>
          <a:blip r:embed="rId4"/>
          <a:stretch/>
        </p:blipFill>
        <p:spPr>
          <a:xfrm>
            <a:off x="457200" y="2057400"/>
            <a:ext cx="3962520" cy="36212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4419720" y="2133720"/>
            <a:ext cx="456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1936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 is traveling at 70 mi/h for 3 hours. How many miles did the car trave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10 m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4" descr="MCj02339660000[1]"/>
          <p:cNvPicPr/>
          <p:nvPr/>
        </p:nvPicPr>
        <p:blipFill>
          <a:blip r:embed="rId2"/>
          <a:stretch/>
        </p:blipFill>
        <p:spPr>
          <a:xfrm>
            <a:off x="228600" y="2514600"/>
            <a:ext cx="411480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cale model of a car is 10 inches long. The scale factor is 1:18. How many feet long is the actual c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180 fe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4" descr="MPj04331920000[1]"/>
          <p:cNvPicPr/>
          <p:nvPr/>
        </p:nvPicPr>
        <p:blipFill>
          <a:blip r:embed="rId2"/>
          <a:stretch/>
        </p:blipFill>
        <p:spPr>
          <a:xfrm>
            <a:off x="304920" y="3124080"/>
            <a:ext cx="335268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millimeters (mm) are in 20 centimeters (cm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200 m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5" descr="MPj03995460000[1]"/>
          <p:cNvPicPr/>
          <p:nvPr/>
        </p:nvPicPr>
        <p:blipFill>
          <a:blip r:embed="rId2"/>
          <a:stretch/>
        </p:blipFill>
        <p:spPr>
          <a:xfrm>
            <a:off x="838080" y="23623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11480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. 24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086600" cy="38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9520" y="1904760"/>
            <a:ext cx="5334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2 pairs of lines that interse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876920" y="50292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NR and OU, MS and 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4" descr=""/>
          <p:cNvPicPr/>
          <p:nvPr/>
        </p:nvPicPr>
        <p:blipFill>
          <a:blip r:embed="rId2"/>
          <a:stretch/>
        </p:blipFill>
        <p:spPr>
          <a:xfrm>
            <a:off x="228600" y="3084480"/>
            <a:ext cx="434340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343040" y="2133720"/>
            <a:ext cx="4343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perimeter and area of the tri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505320" y="54864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= 23 in., A = 20 in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8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9"/>
          <p:cNvSpPr/>
          <p:nvPr/>
        </p:nvSpPr>
        <p:spPr>
          <a:xfrm>
            <a:off x="5181480" y="3276720"/>
            <a:ext cx="1524240" cy="20574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in.           10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rea and perimeter for the trapezo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581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= 28mm, A= 36 m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2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3"/>
          <p:cNvSpPr/>
          <p:nvPr/>
        </p:nvSpPr>
        <p:spPr>
          <a:xfrm rot="10800000">
            <a:off x="4114440" y="3276720"/>
            <a:ext cx="3809880" cy="121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mm         4 mm                     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181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600" y="190512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erimeter and area of the parallelo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733920" y="5410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 = 29 cm, A = 27 c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MCED00278_0000[1]"/>
          <p:cNvPicPr/>
          <p:nvPr/>
        </p:nvPicPr>
        <p:blipFill>
          <a:blip r:embed="rId2"/>
          <a:stretch/>
        </p:blipFill>
        <p:spPr>
          <a:xfrm>
            <a:off x="685800" y="2133720"/>
            <a:ext cx="27986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6"/>
          <p:cNvSpPr/>
          <p:nvPr/>
        </p:nvSpPr>
        <p:spPr>
          <a:xfrm>
            <a:off x="4495680" y="3352680"/>
            <a:ext cx="3581640" cy="1295640"/>
          </a:xfrm>
          <a:prstGeom prst="parallelogram">
            <a:avLst>
              <a:gd name="adj" fmla="val 6910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5 cm        3 cm                      5.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541008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meter &amp; Area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ee farm needs fertilizing. Each box of fertilizer covers 36 square feet. About how many boxes of fertilizer are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962520" y="54100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bout 14 (13.5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581640" cy="29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21333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cu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4 in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609480" y="2666880"/>
            <a:ext cx="3048120" cy="2819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volum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64 ft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228600" y="2819520"/>
            <a:ext cx="3657600" cy="2209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face Area &amp; Volum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9520" y="22096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rface Area of the Triangular Pr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876920" y="5029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56 m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31179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0:34:09Z</dcterms:created>
  <dc:creator>JWEETTA110</dc:creator>
  <dc:description>© 1999-2004 SchoolKiT International
This template is a component of EDclass. You may only use this template if you have a current subscription to EDclass. For more information
visit: www.schoolkit.com
email: service@schoolkit.com</dc:description>
  <dc:language>en-US</dc:language>
  <cp:lastModifiedBy>kim.nelson Nelson</cp:lastModifiedBy>
  <dcterms:modified xsi:type="dcterms:W3CDTF">2012-01-12T01:27:18Z</dcterms:modified>
  <cp:revision>27</cp:revision>
  <dc:subject>SchoolKiT International</dc:subject>
  <dc:title>Chapter 2 Review Game Show</dc:title>
</cp:coreProperties>
</file>